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0CC-A4B1-4ED4-93E7-2CF6EAB5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8E7-2BCB-402F-AA3D-3B663D1E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0C415-A3A5-4F5F-ADEC-51413EC4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800AD-2D19-4EF4-95D3-06514E74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5F327-95D3-4990-8BA0-96C24A05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70ECB-7E5B-48B2-AD51-3BCCC99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21528-2094-4343-A8B7-DAAD126F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391ED-4E61-42E3-87C6-AA169183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04F56-2A8E-4E77-AB3E-7113F2FF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5FB80-19E4-407B-9E24-39E7845E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4649F-2F37-4395-9157-6CA953B6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75478-9A6D-4483-BB36-E78E474B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733-AA3A-4FAA-88E0-D74C39F8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D763D-41AA-40F5-9177-1C6BB916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6CEBD-4B3F-4E20-A08D-9ED64FC6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C1418-0EEA-4883-B939-23192264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7F675-EE03-4ECE-AAF1-7FCE0CEF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26E28-4890-472E-BDC4-AC667114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0D50F-5D4D-42DE-8D28-2F2CE51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CB79E-2C0C-4F25-B3F5-93298C1C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BBBAE-7519-493B-9196-56F0535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4DCBE-D47C-492B-8553-2A59F03B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A6301-9CA8-4BA2-88ED-5E3AB4D4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308-0DFB-47C1-A40B-50419859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3FFF6-9C15-4ECE-AF30-D865B626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6E859-2FDB-420A-88AB-B84DEB32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8C53F-B6A8-44BA-B330-CFFBEC7E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C7673-382E-4E3A-978B-405724E2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D4AB4-617F-4EDA-ABBB-A3F18C4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06D71-1D94-45EE-B798-80914FFA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2B00D-CD75-4C07-B8A2-AED3357A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B5C37-5B62-4CCE-826F-ED183C2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EEC7E-532F-4D3D-B287-0DF1A3A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DE119-6D96-464E-AEEB-C9ECEE34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0396-FA12-46E1-8579-B2A7F40D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352DB-6299-4A1F-8929-7D875219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79061-AAEF-4BDF-8EEB-FAF507AA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F077A-3180-4FCC-82CF-2FFA8D62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EEA03-3566-43A4-B716-3A188922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E2CEC-26F9-4B9E-A80B-4D2E60A1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D2BC2-D378-47D1-9950-E027B0C0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BC302-3791-41B9-AB5D-5976619D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412C8-C40F-4EB4-A1E2-BCDCC893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70CB8-9A73-4329-A40D-538790B4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4C779-395D-4F54-A5F3-33A7864D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D378-5A2B-4284-B8E8-4B89A4A6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58A78-A9FA-4FE3-899A-5CBC017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0E833-A5F2-4CAE-BD6C-C27A9319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6352A-2394-45AB-BDE1-62CA43A3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2D788-DD37-4FEE-8AD9-29CFF71D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15E88-99C9-4234-94BC-2C47F250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DF69-0125-4500-A04A-0B0A0635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47C9-5322-46BF-8E35-07CDB3DF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3411-136A-4F74-8367-9B8FC5BF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AAAC-6E2D-47F5-AB4C-09DC67D5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8269-D022-4594-B395-F4D5D42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7A9-DB25-43C8-B434-95F38527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ADC5-D7D0-4F2A-8222-CDC3459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1D45-144D-48CF-9C79-9C10B5AF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D685-BD76-4247-B9E4-17FDD3EF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1E14-7910-42C3-938D-E288010C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DECC-DD4B-4D19-BCFF-9A6185B0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F31E-BCFA-475F-9730-6B7CAFCA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EE557-B4E1-4A3F-A2E9-FFBD0851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5E07-1640-4921-A3D0-E00196C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6CCC-C473-4EE3-A140-99AEC7A5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59A9-E539-4F98-A93E-89672B17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7CC-D436-4296-8B67-C9057ED0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F894-EB74-49DB-9874-94417ACC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DE4D1-BE1C-4E6A-874A-0530B03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3E3F1-63F6-412E-9737-949A9ED5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447F-1C62-4A84-A6B5-4D1E565A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DC11-962F-453A-A17C-42969EE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DEC5-E7C0-4C9A-959D-25472508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9DDB-6A1F-4647-8F48-9124A957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01A46-A980-4428-A07C-C63C7D97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4519-7911-421D-B5C4-74ED9F2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F160B-DE31-4A8C-8BB7-52794936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9D0-C6EC-4E88-84D9-B776619C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AA6D0-7030-461B-8ED8-42DD13A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09F6-DD05-4B09-AB15-6A76631E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80C8E-0FE2-4EEC-AE8B-7BB5C2F8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2A89-566C-4478-9D91-FC9B013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BABF-E557-4600-82B4-5ADEFD3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3019-1AC1-48A4-9E88-DFE1AA82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66D9F-C9EB-431E-A2FC-BD84111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F2CF-CF63-4925-BB11-4918E834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0C89-0ECF-47C5-AD6D-962725CD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20979-9068-44E6-B450-5D9FEC00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5A1-F1EA-4559-902D-3989EF74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0295-998A-424D-A151-9F3ED305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E170F-72CD-4D1D-826F-AC503906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21184-E91C-4FAC-B793-D79C718E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FC8DF-F2BD-4076-B626-A64F819A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6C491-CE4B-45EE-A553-BC8F1E2A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0325-F676-447B-9310-114003CF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555AF-B624-4D9A-A047-41CCC218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2107-2AF7-4713-B711-28112979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BAFC-6F4A-48A4-881D-A050ECC4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F5C2-3F48-4966-8442-FE973A84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25A-7276-42CA-A529-D92BBA13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6EA1-80D8-4D64-9232-A70A4C18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64BA-F3EE-4738-941F-2389AA0B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CC33C-36E4-4585-B28B-F922B212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F541E-B361-4C1C-8805-5B74D0CC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B4160-7839-46C7-AFAA-6FAF8E26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0AB84-FBF7-4165-B94D-1B1FDD4B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3B97B-66F2-4277-B99A-91AEF40A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EE767-6C3C-4701-9DA0-94EBE0DC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BB852-F2ED-4D1B-8360-54228833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174AF-6EAB-42C0-B357-0C8CA3F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775-BFB3-4814-8471-9F02C97C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ADAE-6552-4442-887D-D7A400A9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FE221-9E5D-49F2-B441-BF54EC55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EA7B7-DBF0-4145-88C7-26B0E217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48FD8-A66A-4BC2-A35E-0E4261C4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F1615-7370-4FE5-A698-7CCB9259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4C241-27F4-4E07-A3AF-1BD87198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4EEC0-C9F1-4355-9FE7-1E891E16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1F87C-5BED-458E-9EAF-C168B47D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7F9F8-4E84-4559-86FE-56421C4D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15BC2-9A0D-4F81-BDDA-370CCF7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123-CE81-4DE4-9C48-1A1FBF53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2E69-4B27-4834-A9F9-61E276EA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A51C4-47BB-40FB-9273-EA2266CA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8435-0A89-483A-8A56-608175D9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A2411-4352-4827-AC34-16F00431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3EC15-5A71-4B96-8B64-58DD0AA0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6D673-7225-43D0-A80E-3973B460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B4011-231B-44E9-BC37-307642DC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D919A-688F-4C99-8405-77750037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571FD-D189-46E3-9402-43D48214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C79D8-1BE5-4C88-8604-6C36140B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0DC-ACF6-41F8-AC5B-C066607D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B0BA4-6322-4517-925D-1F25548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949E8-7CF9-468F-AF9E-EF9D50C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9EAE7-1D25-46B8-9162-B246D5D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A2DA5-FF20-4F06-93B9-4966D35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0B894-C952-4AFF-A070-5577E411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A0E5C-9A7B-42DB-BCB9-507503B9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AE4CA-2431-47BC-9BDE-DD4316E1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7A05A-CD6B-4185-AE3A-C124C80F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E4254-C51E-416B-A7AD-41461B27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8B75C-F152-499B-986A-6C6C3CF7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19C5-B8F7-459B-B11F-B17C7D6876AD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33EB-4CEE-491D-82B8-BEBB7896F70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CC12-6C53-47E6-8F1C-F22DCCA992B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5627-5408-4BE6-8DAD-8CC0819943EC}" type="slidenum"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1027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1028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1029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030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1031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1032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1033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34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35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036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037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038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039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040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041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042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043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044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1045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104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104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104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36F2-D4B3-4145-877F-934363750EF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2100-50BE-44BB-AFC7-6F7627F24E1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DEF3-446B-4B7C-A24C-4E537970A41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FAAD-5A21-45F6-BB33-D715A4B3DAA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BF08-3D2E-40A6-A4E0-6B81C27FB9ED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7E0-6DEB-4438-9EC6-422CA2FFF41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8DEE-9FE4-44E5-99F3-6B984A1CCAC8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69C5-251C-41BB-8973-A70EDC48AD6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"/>
          <p:cNvSpPr/>
          <p:nvPr/>
        </p:nvSpPr>
        <p:spPr>
          <a:xfrm>
            <a:off x="0" y="342900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Curso de Sistemas de Informação</a:t>
            </a:r>
            <a:br>
              <a:rPr sz="4400"/>
            </a:b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1447920" y="4952880"/>
            <a:ext cx="6476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Professor: Ricard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Mudança da base 10 para binári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714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357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178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89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44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22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11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5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2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1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Line 6"/>
          <p:cNvSpPr/>
          <p:nvPr/>
        </p:nvSpPr>
        <p:spPr>
          <a:xfrm flipH="1" flipV="1">
            <a:off x="1371240" y="3200400"/>
            <a:ext cx="3962520" cy="3657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Mudança da base 10 para binári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714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357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178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89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44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22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11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5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2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1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Line 6"/>
          <p:cNvSpPr/>
          <p:nvPr/>
        </p:nvSpPr>
        <p:spPr>
          <a:xfrm flipH="1" flipV="1">
            <a:off x="1371240" y="3200400"/>
            <a:ext cx="3962520" cy="3657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5791320" y="640080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5410080" y="640080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Oval 9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4724280" y="556272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Oval 11"/>
          <p:cNvSpPr/>
          <p:nvPr/>
        </p:nvSpPr>
        <p:spPr>
          <a:xfrm>
            <a:off x="4267080" y="510552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Oval 12"/>
          <p:cNvSpPr/>
          <p:nvPr/>
        </p:nvSpPr>
        <p:spPr>
          <a:xfrm>
            <a:off x="3733920" y="464832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Oval 13"/>
          <p:cNvSpPr/>
          <p:nvPr/>
        </p:nvSpPr>
        <p:spPr>
          <a:xfrm>
            <a:off x="3276720" y="42670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Oval 14"/>
          <p:cNvSpPr/>
          <p:nvPr/>
        </p:nvSpPr>
        <p:spPr>
          <a:xfrm>
            <a:off x="2743200" y="38098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Oval 15"/>
          <p:cNvSpPr/>
          <p:nvPr/>
        </p:nvSpPr>
        <p:spPr>
          <a:xfrm>
            <a:off x="2057400" y="33526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Oval 16"/>
          <p:cNvSpPr/>
          <p:nvPr/>
        </p:nvSpPr>
        <p:spPr>
          <a:xfrm>
            <a:off x="1447920" y="28954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4952880" y="3733920"/>
            <a:ext cx="37339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 = 1011001010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10 para oct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14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714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8_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2  89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8_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1  11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8_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3  1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 flipV="1">
            <a:off x="1066680" y="3352320"/>
            <a:ext cx="1905120" cy="17528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Oval 13"/>
          <p:cNvSpPr/>
          <p:nvPr/>
        </p:nvSpPr>
        <p:spPr>
          <a:xfrm>
            <a:off x="3048120" y="441972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Oval 14"/>
          <p:cNvSpPr/>
          <p:nvPr/>
        </p:nvSpPr>
        <p:spPr>
          <a:xfrm>
            <a:off x="2666880" y="441972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Oval 15"/>
          <p:cNvSpPr/>
          <p:nvPr/>
        </p:nvSpPr>
        <p:spPr>
          <a:xfrm>
            <a:off x="2057400" y="388620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Oval 16"/>
          <p:cNvSpPr/>
          <p:nvPr/>
        </p:nvSpPr>
        <p:spPr>
          <a:xfrm>
            <a:off x="1523880" y="3352680"/>
            <a:ext cx="38124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4952880" y="3733920"/>
            <a:ext cx="37339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 = 131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10 para hexadecim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14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714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16_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10  44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16_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12  2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H="1" flipV="1">
            <a:off x="914400" y="3352320"/>
            <a:ext cx="1371600" cy="129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Oval 14"/>
          <p:cNvSpPr/>
          <p:nvPr/>
        </p:nvSpPr>
        <p:spPr>
          <a:xfrm>
            <a:off x="2438280" y="388620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Oval 15"/>
          <p:cNvSpPr/>
          <p:nvPr/>
        </p:nvSpPr>
        <p:spPr>
          <a:xfrm>
            <a:off x="1981080" y="388620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Oval 16"/>
          <p:cNvSpPr/>
          <p:nvPr/>
        </p:nvSpPr>
        <p:spPr>
          <a:xfrm>
            <a:off x="1447920" y="33526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Text Box 17"/>
          <p:cNvSpPr/>
          <p:nvPr/>
        </p:nvSpPr>
        <p:spPr>
          <a:xfrm>
            <a:off x="3733920" y="3276720"/>
            <a:ext cx="37335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 = 2CA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1219320" y="518148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, 2, 3, 4, 5, 6, 7, 8, 9, A, B, C, D, E, 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=10 , B=11 , C=12 , D=13 , E=14 , F=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binária para decimal (10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011001010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       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6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12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5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2514600" y="22096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590920" y="2209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0+2+0+8+0+0+64+128+0+512 = 7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>
            <a:off x="2209680" y="25146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2076480" y="251460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1905120" y="2514600"/>
            <a:ext cx="0" cy="1219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>
            <a:off x="1771560" y="2514600"/>
            <a:ext cx="0" cy="1600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1600200" y="2514600"/>
            <a:ext cx="0" cy="1981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1467000" y="2514600"/>
            <a:ext cx="0" cy="2362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>
            <a:off x="1314360" y="2514600"/>
            <a:ext cx="0" cy="281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1162080" y="2514600"/>
            <a:ext cx="0" cy="3200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1009800" y="2514600"/>
            <a:ext cx="0" cy="3581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857160" y="2514600"/>
            <a:ext cx="0" cy="4038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2209680" y="2819520"/>
            <a:ext cx="228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2057400" y="32767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>
            <a:off x="1905120" y="3695760"/>
            <a:ext cx="2590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>
            <a:off x="1752480" y="4114800"/>
            <a:ext cx="2743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>
            <a:off x="1600200" y="4495680"/>
            <a:ext cx="2895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>
            <a:off x="1447920" y="4876920"/>
            <a:ext cx="30477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295280" y="5334120"/>
            <a:ext cx="32004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143000" y="5715000"/>
            <a:ext cx="33526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990720" y="6095880"/>
            <a:ext cx="35049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838080" y="6553080"/>
            <a:ext cx="36576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9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octal para decimal (10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31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       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 x 8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8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 x 8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19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8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5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2514600" y="22096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2590920" y="2209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2+8+192+512 = 7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Line 14"/>
          <p:cNvSpPr/>
          <p:nvPr/>
        </p:nvSpPr>
        <p:spPr>
          <a:xfrm>
            <a:off x="2209680" y="27432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Line 15"/>
          <p:cNvSpPr/>
          <p:nvPr/>
        </p:nvSpPr>
        <p:spPr>
          <a:xfrm>
            <a:off x="2076480" y="274320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Line 16"/>
          <p:cNvSpPr/>
          <p:nvPr/>
        </p:nvSpPr>
        <p:spPr>
          <a:xfrm>
            <a:off x="1905120" y="274320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1771560" y="2743200"/>
            <a:ext cx="0" cy="1600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Line 26"/>
          <p:cNvSpPr/>
          <p:nvPr/>
        </p:nvSpPr>
        <p:spPr>
          <a:xfrm>
            <a:off x="2057400" y="35053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Line 27"/>
          <p:cNvSpPr/>
          <p:nvPr/>
        </p:nvSpPr>
        <p:spPr>
          <a:xfrm>
            <a:off x="1905120" y="3886200"/>
            <a:ext cx="2590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Line 28"/>
          <p:cNvSpPr/>
          <p:nvPr/>
        </p:nvSpPr>
        <p:spPr>
          <a:xfrm>
            <a:off x="1752480" y="4343400"/>
            <a:ext cx="2743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5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hexadecimal para decim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CA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       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10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0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C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12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192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5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2514600" y="22096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2590920" y="2209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10+192+512 = 7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2133720" y="27432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1981080" y="274320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1752480" y="274320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Line 12"/>
          <p:cNvSpPr/>
          <p:nvPr/>
        </p:nvSpPr>
        <p:spPr>
          <a:xfrm>
            <a:off x="2133720" y="3048120"/>
            <a:ext cx="228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1981080" y="3505320"/>
            <a:ext cx="2438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Line 14"/>
          <p:cNvSpPr/>
          <p:nvPr/>
        </p:nvSpPr>
        <p:spPr>
          <a:xfrm>
            <a:off x="1752480" y="3886200"/>
            <a:ext cx="2590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5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4000" spc="-1" strike="noStrike">
                <a:solidFill>
                  <a:srgbClr val="ffffff"/>
                </a:solidFill>
                <a:latin typeface="AvantGarde Bk BT"/>
              </a:rPr>
              <a:t>Adição e subtração em biná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vantGarde Bk BT"/>
              </a:rPr>
              <a:t>As operações aritméticas com números binários são feitas de forma análoga aos decim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vantGarde Bk BT"/>
              </a:rPr>
              <a:t>Para a subtração, em especial, é necessário lembrar os “empréstimos” ensinados durante o primá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vantGarde Bk BT"/>
              </a:rPr>
              <a:t>É importante ter em mente qu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+ 1 = 0 e “vai”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+ 0 = 0 + 1 =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+ 0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+ 1 + 1 = 1 e “vai”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vantGarde Bk BT"/>
              </a:rPr>
              <a:t>Exemp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Ex1:  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1  1  1      - vai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0 1 1 – 1a. parc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+  1  1 1 1  - 2a. parc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1 0 1 0 – result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0        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Ex2: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    0    (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)</a:t>
            </a:r>
            <a:r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=2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-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    1    1     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     0    1    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Line 4"/>
          <p:cNvSpPr/>
          <p:nvPr/>
        </p:nvSpPr>
        <p:spPr>
          <a:xfrm>
            <a:off x="826920" y="3645000"/>
            <a:ext cx="1657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826920" y="5300640"/>
            <a:ext cx="2449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1835280" y="4365720"/>
            <a:ext cx="21564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Line 8"/>
          <p:cNvSpPr/>
          <p:nvPr/>
        </p:nvSpPr>
        <p:spPr>
          <a:xfrm>
            <a:off x="1258920" y="4365720"/>
            <a:ext cx="28872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EXERCICIOS RESOLVI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 Unicode MS"/>
              </a:rPr>
              <a:t>Exercícios, converter para a base 10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1100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0111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ABCD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A8B2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Bit – menor partícula de informação no computador, pode representar 0 ou 1. Esses dois símbolos são opostos e mutuamente exclusiv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Byte – conjunto de 8 b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EXERCICIOS RESOLVI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 Unicode MS"/>
              </a:rPr>
              <a:t>Respostas ao exercício anterio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1100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2 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= 12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0111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2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= 7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ABCD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6 =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43981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A8B2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6 =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43186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xistiram e existem diversos sistemas de numeraçã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No computador, serve para questões de endereçamento, armazenamento, conteúdo de tabelas e representações gráfic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Bases diferentes usadas nos mais diversos computador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Ba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Binári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c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, 2, 3, 4, 5, 6, 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ecim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, 2, 3, 4, 5, 6, 7, 8, 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exadecim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, 2, 3, 4, 5, 6, 7, 8, 9, A, B, C, D, E, 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nas ba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11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- 101101 na base 2 (binári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5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- 752 na base 8 (oct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651 - 651 na base 10 (decim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Quando não é indicada a base, a base é decimal. Mas poderia ser representado assim: 651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423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- 423 na base 16 (hexadecim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nas bases – Base decim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48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484 = 7 x 1000 + 4 x 100 + 8 x 10 +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484 = 7 X 10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4 X 10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2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+ 8 X 10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4 X 10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em polinômio genér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úmero = d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d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... d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d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de binário na base 1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1010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1010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1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1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5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+ 0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1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0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1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1010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64 + 32 + 0 + 8 + 0 + 0 +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1010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105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 em polinômio genér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úmero = b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b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... b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b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de octal na base 1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5462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5462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5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4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3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+ 6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2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5462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20480 + 2048 + 384 + 16 +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5462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22929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 em polinômio genér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úmero = o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o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... o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o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de hexadecimal na base 1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3974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3974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3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9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3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+ 7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4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3974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196608 + 36864 + 1792 + 64 +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3974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235329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 em polinômio genér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úmero = h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h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... h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h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5:51:42Z</dcterms:created>
  <dc:creator>Superintendencia Informatica</dc:creator>
  <dc:description/>
  <dc:language>en-US</dc:language>
  <cp:lastModifiedBy>Lelo</cp:lastModifiedBy>
  <cp:lastPrinted>2001-08-15T18:56:47Z</cp:lastPrinted>
  <dcterms:modified xsi:type="dcterms:W3CDTF">2011-08-23T14:44:11Z</dcterms:modified>
  <cp:revision>36</cp:revision>
  <dc:subject/>
  <dc:title>A Área de Informática</dc:title>
</cp:coreProperties>
</file>